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EEE2-7922-45C9-B960-3216DD47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AC3-2446-4756-93F7-F975124D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98C3-3088-4CD1-8DD7-42E7148A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530-EF4D-4429-85A4-4F7E92B1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1FEF-CF9B-4114-AEDE-6653AE2A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09FC-98B5-4F56-99C9-D29DC1E2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A9CA-E973-452C-8AE0-0CF5889B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96C2-15E8-4E2F-81E5-206C51F1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7ABB-736A-4DC9-97C3-52574B23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AB88-AF90-4B65-8E15-E98AB2AC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A8DF-E54D-433F-BCE6-C809EEAF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A59-7F08-4A78-8B19-59B8DE24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94BC-D1AC-4908-A809-52A5D992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C33B-5965-48F5-98AC-793425E4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4522-8353-444C-942B-BA9DD098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4720-8D62-4E96-B13A-8C5D26386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BB46-5806-4C38-959A-B586762D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386-0DE2-42CC-8C0E-10602C61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199B-FDD7-4103-9524-AAFCE8B6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0206-72E5-4E17-948C-66A66EFA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393-AC12-495C-B483-FED542F1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3BE-A086-47E0-A041-0282E94E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4C20-CB60-4821-BACC-B56A2996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9BE-84D3-4BD7-A496-153A6FC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9ECE-C94F-4CB9-AB6F-624522A8995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4ADD-535D-4C62-9E02-519BDE8FD82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Broadway"/>
              </a:rPr>
              <a:t>Walthill Public School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NCA Data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gust 2,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Data Sourc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be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mswe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W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638680" y="9907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58000" y="2438280"/>
            <a:ext cx="2085840" cy="1960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114800" y="4038480"/>
            <a:ext cx="2355840" cy="1438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6934320" y="5486400"/>
            <a:ext cx="15238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What Reports are used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 Car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p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 rot="1267200">
            <a:off x="6380280" y="1699920"/>
            <a:ext cx="2133360" cy="1606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419720" y="3124080"/>
            <a:ext cx="1582560" cy="2057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 rot="20136600">
            <a:off x="5638680" y="5105160"/>
            <a:ext cx="304812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Analyzing the Dat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ginning the school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fore T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/T Con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T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29200" y="1981080"/>
            <a:ext cx="3695760" cy="4114800"/>
            <a:chOff x="5029200" y="1981080"/>
            <a:chExt cx="3695760" cy="41148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5029200" y="1981080"/>
              <a:ext cx="369576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 txBox="1"/>
            <p:nvPr/>
          </p:nvSpPr>
          <p:spPr>
            <a:xfrm>
              <a:off x="5029200" y="1981080"/>
              <a:ext cx="369576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Involving Staff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cogn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T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09880" y="1981080"/>
            <a:ext cx="5105520" cy="4114800"/>
            <a:chOff x="3809880" y="1981080"/>
            <a:chExt cx="5105520" cy="411480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3809880" y="1981080"/>
              <a:ext cx="510552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 txBox="1"/>
            <p:nvPr/>
          </p:nvSpPr>
          <p:spPr>
            <a:xfrm>
              <a:off x="3809880" y="1981080"/>
              <a:ext cx="510552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cc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904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What changes have we made because of analyzing data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hanges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419720" y="167652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</a:rPr>
              <a:t>Challen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dget constr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n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742000" y="1905120"/>
            <a:ext cx="3179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18:05:43Z</dcterms:created>
  <dc:creator>Carol Hilker</dc:creator>
  <dc:description/>
  <dc:language>en-US</dc:language>
  <cp:lastModifiedBy>Carol Hilker</cp:lastModifiedBy>
  <dcterms:modified xsi:type="dcterms:W3CDTF">2011-08-01T20:37:29Z</dcterms:modified>
  <cp:revision>4</cp:revision>
  <dc:subject/>
  <dc:title>Walthill Public Schools</dc:title>
</cp:coreProperties>
</file>